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35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9.wmf" ContentType="image/x-wmf"/>
  <Override PartName="/ppt/media/image38.wmf" ContentType="image/x-wmf"/>
  <Override PartName="/ppt/media/image18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671175" cy="80025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3A8C8445-1AB8-4A84-B1BD-43DDEE4AE73A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255920" y="75344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120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9F94FD2E-461B-4E9C-9C9D-EF09C48E98F9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920" y="380880"/>
            <a:ext cx="163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27. Aug.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75760" y="380880"/>
            <a:ext cx="177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Security Lev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76320"/>
            <a:ext cx="106711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utigerNext LT Medium"/>
              </a:rPr>
              <a:t>Statistical Eye Simulation Require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9200" y="4361040"/>
            <a:ext cx="464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ang Chun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angchunxing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9200" y="2991960"/>
            <a:ext cx="5148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sian IBIS Summit, Shanghai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ctober 27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Algorithm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ng the optimal sampling point and equalizer coeffic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S adaptive algorit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ro Forcing algorit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11560" y="2560680"/>
            <a:ext cx="5977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1200" y="155232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ng Forward channel 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Overlapping each bit at one UI ran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t each UI sampling point, compu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F of Overlapping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685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70680" y="2236680"/>
          <a:ext cx="4600440" cy="47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0680" y="2236680"/>
                    <a:ext cx="460044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97092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lk Convolution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Interpolating each Xtlk channel responses to small enough time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verlapping each bit in one UI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omputing PDF of Overlapping data at each UI sampling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veraging PDFs through whole UI sampling points to get the average PD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Repeating 1-4 for each aggresso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Convolving average PDFs of all aggressors to get the whole crosstalk PD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Moore presented convolution method in his paper “Computing effect of cross talk using Convolution” at 802.3ap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grouper.ieee.org/groups/802/3/ap/public/channel_adhoc/moore_c1_0305.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72572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19560" y="1697040"/>
          <a:ext cx="47023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9560" y="1697040"/>
                    <a:ext cx="47023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1200" y="1552680"/>
            <a:ext cx="5040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ndom 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ndom Jitte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verall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5560" y="4324320"/>
            <a:ext cx="4392720" cy="8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27200" y="2739960"/>
            <a:ext cx="1800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560" y="1407960"/>
            <a:ext cx="9649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eye is set of probability con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rizontal axis is with respect to sampl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tical axis is with respect to signal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colored lines represent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64280" y="3462480"/>
            <a:ext cx="4859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66840" y="3424320"/>
            <a:ext cx="3457440" cy="246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604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htu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through statistical eye along horizontal axis to get horizontal Bathtub at definite volt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through statistical eye along vertical axis to get vertical Bathtub at definite sampling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61000" y="443232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8480" y="4540320"/>
            <a:ext cx="2521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87560" y="3568680"/>
            <a:ext cx="0" cy="190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7920" y="4871880"/>
            <a:ext cx="3311640" cy="2333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79920" y="2631960"/>
            <a:ext cx="3407040" cy="238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39200" y="3424320"/>
            <a:ext cx="1800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04280" y="5729400"/>
            <a:ext cx="1800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verall Simulation Eye Fl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6920" y="292104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96920" y="48639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8560" y="675972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14800" y="13143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8280" y="1854360"/>
            <a:ext cx="199692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Next LT BlackCn"/>
              </a:rPr>
              <a:t>Chann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48280" y="248760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4527720"/>
            <a:ext cx="144720" cy="409320"/>
          </a:xfrm>
          <a:prstGeom prst="downArrow">
            <a:avLst>
              <a:gd name="adj1" fmla="val 50000"/>
              <a:gd name="adj2" fmla="val 70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91200" y="675972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85320" y="14270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11560" y="5008680"/>
          <a:ext cx="227808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560" y="5008680"/>
                    <a:ext cx="2278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743360" y="652140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42840" y="1479600"/>
            <a:ext cx="19735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70680" y="263196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Transmitter E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087560" y="3352680"/>
            <a:ext cx="2019240" cy="1257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61080" y="4576680"/>
            <a:ext cx="17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Jitter Mod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158840" y="5295960"/>
            <a:ext cx="1873440" cy="1185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04800" y="6232680"/>
            <a:ext cx="139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Emph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967200" y="2921040"/>
            <a:ext cx="2232000" cy="1322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98640" y="4287960"/>
            <a:ext cx="122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423200" y="4395960"/>
            <a:ext cx="2160360" cy="161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51560" y="2200320"/>
            <a:ext cx="2160720" cy="1587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96280" y="39146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ample - Channel pre-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90120" y="1371600"/>
            <a:ext cx="9604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d condi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bps NRZ, PRBS 23, 100000 bits, amplitude 800mvpp, Tr(f) = 24p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5UIpp DJ = 0.05UI DCD+0.1UI PJ, 0.15UIpp RJ @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 = 1e-12 (2*Q=14.06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tap de-emphasis, 5tap D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voltage: 10m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annel                                     Eight crosstalk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51560" y="5332320"/>
            <a:ext cx="2808360" cy="1722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9560" y="5153040"/>
            <a:ext cx="3419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ample - Channel pre-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6720" y="3344760"/>
            <a:ext cx="5191200" cy="389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443560" y="3335400"/>
            <a:ext cx="5156280" cy="3868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98480" y="1444680"/>
            <a:ext cx="957744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mv eye-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222UI eye-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shows that the channel could undertake 10Gbps dat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onclus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97092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thod of statistical eye simulation has been presented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eal platform to realize statistical eye sim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 Modulation at trans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emphasis or de-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Forward channel, Xtlk channe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post-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Eye Simulation Fl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27560" y="1768320"/>
          <a:ext cx="603072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7560" y="1768320"/>
                    <a:ext cx="603072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66840" y="1697040"/>
            <a:ext cx="4176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ulation f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domain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post-proce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ata source could be signal source or real serde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imulation Requirement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upport IBIS or Hspice serdes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imulate channel responses by using convolution metho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 should easily realize jitter modulation, equalizer and empha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upport equalizers, such as LFE, DFE and C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ful post-processing ability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may further support co-simulating with Matlab for user defined statistical 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55560" y="3457440"/>
          <a:ext cx="71866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457440"/>
                    <a:ext cx="71866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Mod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6543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Voltage Controlled Delay to add  ji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tter at transmitter includes PJ, DC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J will be consider in statistical post-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435560" y="3639960"/>
                <a:ext cx="2773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24685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88280" y="1263600"/>
            <a:ext cx="2665440" cy="1616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748640" y="3352680"/>
            <a:ext cx="2592360" cy="1613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64640" y="29210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35560" y="4863960"/>
                <a:ext cx="4105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mpha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technique includes pre-emphasis and de-emph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re-emphasis and de-emphasis could be expressed as FIR filter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6840" y="2847960"/>
            <a:ext cx="6048360" cy="4253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99200" y="2739960"/>
            <a:ext cx="2952720" cy="18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43560" y="4952880"/>
            <a:ext cx="2700360" cy="1819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11920" y="4527720"/>
            <a:ext cx="144720" cy="409320"/>
          </a:xfrm>
          <a:prstGeom prst="downArrow">
            <a:avLst>
              <a:gd name="adj1" fmla="val 50000"/>
              <a:gd name="adj2" fmla="val 70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hannel Model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9200" y="1336320"/>
            <a:ext cx="99439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 models, including fwrd and xtlks, could be expressed in S-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transient simulation with touchstone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09000" y="337176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27200" y="2884320"/>
            <a:ext cx="611964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9000" y="474012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280280" y="5243400"/>
            <a:ext cx="2158920" cy="13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35920" y="286704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LFE</a:t>
            </a:r>
            <a:br>
              <a:rPr sz="3500"/>
            </a:b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22480" y="6700680"/>
                <a:ext cx="55450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1158840" y="2004840"/>
          <a:ext cx="4356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8840" y="2004840"/>
                    <a:ext cx="435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288280" y="341136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200" y="1263600"/>
            <a:ext cx="5472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FE is linear feed-forward 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30840" y="1263600"/>
            <a:ext cx="3170520" cy="214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75560" y="3821040"/>
            <a:ext cx="3116160" cy="2109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55560" y="5008680"/>
            <a:ext cx="77058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screte – usually just one tap per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te – not long enough to completely correct the 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y result in noise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DFE</a:t>
            </a:r>
            <a:br>
              <a:rPr sz="3500"/>
            </a:b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58840" y="1947960"/>
          <a:ext cx="47322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8840" y="1947960"/>
                    <a:ext cx="47322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06480" y="6521400"/>
                <a:ext cx="7129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⋯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991200" y="4216320"/>
            <a:ext cx="3313440" cy="2086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504280" y="378468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630840" y="1552680"/>
            <a:ext cx="3745080" cy="220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7200" y="1300320"/>
            <a:ext cx="5472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FE is decision feed-back 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4937040"/>
            <a:ext cx="6767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FE uses a feedback loop of the desired signal which  is decoded from the output of a sl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FE can further correct the residual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CT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480" y="1552680"/>
            <a:ext cx="472608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E is continuous time equali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E model is an ideal circuit with the desired pole, zero respo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0 and z0 are programm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74840" y="4108320"/>
                <a:ext cx="2448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711920" y="37353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695920" y="1195560"/>
            <a:ext cx="3745080" cy="2517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67560" y="4195800"/>
            <a:ext cx="3744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6-09-19T16:28:44Z</dcterms:modified>
  <cp:revision>674</cp:revision>
  <dc:subject/>
  <dc:title>PowerPoint Presentation</dc:title>
</cp:coreProperties>
</file>